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DED3-F92A-4920-8BEC-EEEA797042B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ды Михаила Васильевича Ломо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25FD-7582-4A93-ADB4-7D495B017B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Calibri"/>
              </a:rPr>
              <a:t>Ода 1750 г. посвящена точным нау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йдите землю и пуч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тепи, и глубокий лес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нутр Рифейский, и верш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аму высоту небе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езде исследуйте всеч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то есть велико и прекр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го еще не видел свет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3CD2-9D3A-4AED-A908-3E414F23D0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ое количество од Ломоносов посвятил Елизавете Петровн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акую радость ощущаю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я ныне восхищен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у пищу я вкушаю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ерьх Олимпа вознесен!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F90F-2B0A-4933-B781-85300B5060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1"/>
                </a:solidFill>
                <a:latin typeface="Calibri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гда божественны науки  чрез горы, реки и моря  в Россию простирали руки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ли я ныне позабылась  и с одного пути склонилась,  которым прежде я текла?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3573-6C5A-4A4B-BF90-C7B329A9AAD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FA19-5A9F-479D-9752-9118C1AF20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духовных од лаконичен и лишен всякого рода "украшений"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B61A-5DED-457B-9D0C-1AFF343E19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икто не уповай вовеки на тщетну     власть князей зем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0538-5A38-4D79-A770-EDA107D0B0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702E-A432-440D-96CB-0DD5DC2380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О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лирический жанр, пришедший в европейскую литературу из античн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бедно-патриот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хв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лософ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ухо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накреонтическ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7ABD-32A9-414A-91F3-EE6072D86C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ода Ломоносова – «Ода на взятие Хот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498E-A0CC-43EC-9B85-4D94B6E02B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01"/>
                </a:solidFill>
                <a:latin typeface="Calibri"/>
              </a:rPr>
              <a:t>В оде Ломоносова выделяется три основные части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вое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авление побе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A7B5-09DE-4CEA-A9B0-17F68A9EA7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Calibri"/>
              </a:rPr>
              <a:t>О подвиге безымянного героя Ломоносов пишет с восхищением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репит отечества любов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ынов российских дух и руку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Желает всяк пролить всю кров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От грозного бодрится звуку…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05E2-26FE-4329-9405-99FB9968A3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е Иоанн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анну Антонович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е Петров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у II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е 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C3DD-E476-409C-8968-1843459C8F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CB0E-F668-4602-A818-564C6B8B8C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ы Ломоносова отражают многие события то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0702-1F83-4068-A4C7-3257CE0E4C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4E7E-5298-4C49-B187-68AC946DF0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F1BE-6509-4DF4-AF20-3F98B402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EF61-6708-44D9-AEF4-87D02912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649A-CD79-4D63-BADE-AFC91C80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E512-B276-48D7-B4BB-BADD46EE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6CE3-18C9-4918-9782-4A3101D5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79D3-02FF-4337-ABB1-9ADEAE36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8748-CD3D-4983-96D4-50AE9240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7E75-64F2-499E-95B6-67C9CF66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E9EB-6952-4BFC-9433-9C89E7F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0C01-81B8-4DEA-BE97-19E03805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1F53-5BEC-41C6-9D6F-BA4BE8DA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1DFC-D18B-491C-94FC-9965D03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3D59-0EF0-4773-BE07-FFCD106C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BB13-BB78-4486-B74E-8F0DE109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FE5D-942C-4000-990A-86999D3F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2A57-CB39-4D6B-9AE1-D7F4A5D0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2741-E783-408A-9B3E-32BF10DA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696D-210F-49DD-9D44-39610F37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D440-D401-4639-8463-C40E2EE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8174-2457-4C60-A05C-F4CD01B0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D021-B2EF-459E-8CD8-F24F37C4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234B-B45F-4719-AB63-6A060B2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9C50-A904-4119-B6B0-DF32D2AE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3FAC-BEEE-435B-8318-A2C5770C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B9A8-90BE-4A5F-BD63-C07A6585D67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F728-D75B-477A-B77F-0F91625449E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LEGION</cp:lastModifiedBy>
  <dcterms:modified xsi:type="dcterms:W3CDTF">2015-01-20T10:11:09Z</dcterms:modified>
  <cp:revision>5</cp:revision>
  <dc:subject/>
  <dc:title>Оды Михаила Васильевича Ломоносова</dc:title>
</cp:coreProperties>
</file>